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B54-A1F5-4AE7-87BC-F8878EC3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134-1CA9-4D7A-846C-7BDB7B26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112-D5F6-47CD-9BB8-F7ABCEC2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E3B-4BFE-491E-962A-D3B678F3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496-4343-4504-8AE1-EB67D21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E5D-7A3F-4C1F-AF4A-F51DCEB2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505-7D40-4E8B-BD81-AF99A421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83E-8E0C-4F27-8902-0008CBDC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866-8837-4388-AD42-C05A95EC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271-6453-4028-910B-DE45DB6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F8E-F969-4BB0-A779-17C0701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308-B0CE-4B4D-B018-EE8601C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32E-FD4B-4316-A439-8A61505A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4 Nech teba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 z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a, Pane, chváli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neba šíry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ocný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ocný Krá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edieť mal by cel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áchrancom s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konč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ajov, m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veta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ti večná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evládny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ech znie ti večná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evládny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sa skláňa pred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osí: Príď už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ečný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ečný Kráľ a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09:10:39Z</dcterms:modified>
  <cp:revision>10</cp:revision>
  <dc:subject/>
  <dc:title>Je veľký náš Pán, on slávy je Kráľ Nech do všetkých strán  spev vrúcnych znie chvál.</dc:title>
</cp:coreProperties>
</file>